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EC29-3706-4840-B458-1C47EDEA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69B9-53EC-4826-AD29-388DC864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49A-55D1-4752-9363-2D7DD562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7F5-3389-48C7-AE53-5A52BB47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21CD-BCAD-46D3-8118-99C8E1A0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DBC-78A9-4224-BD3D-01853A43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D5C-A430-4F1A-B855-062FDB08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9724-137C-44D8-B148-70E50EFD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6E1-5A7D-4BAC-8C9B-FA5C0A37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3AD-8813-47F1-8624-ECF00B97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2E30-9CD2-4392-A3AE-BD11D450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873-884B-4C4E-93A8-96E2CA66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EE54-D114-48D2-BCA9-BDB190BFF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wa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eran Donnelly Gr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457200"/>
            <a:ext cx="297180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30481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Honolulu.  Statehood:  August 21,1959 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. The motto is The life of the land is perpetuated in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46672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24480" y="228600"/>
            <a:ext cx="2133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1,224,39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: 10,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: Yellow hibis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: N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Peoples: Native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1295280"/>
            <a:ext cx="3619440" cy="3086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152280"/>
            <a:ext cx="28195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ush Pacific island state of 8 major islands and 124 islets, originally settled by Polynesians from Marquesas has active volcanoes.  The first European , Captain Cook, visited in 1778,and the United States annexed Hawaii in 189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261936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214308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2:42:22Z</dcterms:created>
  <dc:creator>Mother of Divine Grace</dc:creator>
  <dc:description/>
  <dc:language>en-US</dc:language>
  <cp:lastModifiedBy>Mother of Divine Grace</cp:lastModifiedBy>
  <dcterms:modified xsi:type="dcterms:W3CDTF">2012-05-11T03:35:20Z</dcterms:modified>
  <cp:revision>2</cp:revision>
  <dc:subject/>
  <dc:title>Hawaii</dc:title>
</cp:coreProperties>
</file>